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33F-CF6D-440F-8710-D3F8B7B2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938-FCA0-4AB0-9760-6A7685A7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D4A-7C20-4A8C-BF4C-52629CBD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D80-5415-45BF-B054-EBF1CC4C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A46D-A9C4-4304-8DB0-79953971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A638-447D-4E38-A3DC-0FCBAEEF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E2FC-0527-4175-8C12-C67FBEDB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B7FC-C138-4231-9F8C-C56B7F54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F210-19AB-4157-B66B-19010BA2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5AD4-B944-404F-945A-DD309B66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879D-827C-46CF-A211-A642FA6E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5FF-2029-4860-A323-16A4471C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654A-061A-4AA6-846F-489F7D4A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1B12-0183-4423-B38A-064BB2CC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3367-A356-4D01-BC6E-AAB8BEC0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4772-C175-45F7-BFB7-980F8BDE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E8B8-D983-4FDF-9100-F4099B2B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19B-35FA-4BA8-BFB0-7DBC9040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BB5-1AAE-4F4A-B44F-893DD5DD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18F-8F24-4AD3-B93A-C16E977C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D5D-4EBC-4C6A-AA5B-5D4FD962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103-0D62-4B1A-A26C-6ED313FF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A1A-4562-4744-A072-9E63A57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655-BA2D-40BB-97A6-0CF06716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2594-3D28-44AE-B65F-1259C7E7D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48A0-8F2A-431C-B979-F42F22C57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adedrelief.com/physical/usa_zoom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quiry-Based Science Instruction and Virtual Learning Objec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ward C. Robeck, Ph.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 Profes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isbury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 Fulbright Visiting Facu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Kebangsa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14080" y="685800"/>
            <a:ext cx="812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 at the University of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May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on Resear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629080" y="2272680"/>
            <a:ext cx="3887640" cy="3534120"/>
            <a:chOff x="2629080" y="2272680"/>
            <a:chExt cx="3887640" cy="3534120"/>
          </a:xfrm>
        </p:grpSpPr>
        <p:sp>
          <p:nvSpPr>
            <p:cNvPr id="117" name="_s18437"/>
            <p:cNvSpPr/>
            <p:nvPr/>
          </p:nvSpPr>
          <p:spPr>
            <a:xfrm>
              <a:off x="3251160" y="2272680"/>
              <a:ext cx="2643120" cy="240300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403000"/>
                <a:gd name="textAreaBottom" fmla="*/ 2403360 h 24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8438"/>
            <p:cNvSpPr/>
            <p:nvPr/>
          </p:nvSpPr>
          <p:spPr>
            <a:xfrm rot="5400000">
              <a:off x="3993480" y="2718360"/>
              <a:ext cx="2403000" cy="2643120"/>
            </a:xfrm>
            <a:custGeom>
              <a:avLst/>
              <a:gdLst>
                <a:gd name="textAreaLeft" fmla="*/ 0 w 2403000"/>
                <a:gd name="textAreaRight" fmla="*/ 2403360 w 240300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8439"/>
            <p:cNvSpPr/>
            <p:nvPr/>
          </p:nvSpPr>
          <p:spPr>
            <a:xfrm rot="10800000">
              <a:off x="3251160" y="3403800"/>
              <a:ext cx="2643120" cy="240300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403000"/>
                <a:gd name="textAreaBottom" fmla="*/ 2403360 h 24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8440"/>
            <p:cNvSpPr/>
            <p:nvPr/>
          </p:nvSpPr>
          <p:spPr>
            <a:xfrm rot="16200000">
              <a:off x="2748960" y="2718000"/>
              <a:ext cx="2403000" cy="2643120"/>
            </a:xfrm>
            <a:custGeom>
              <a:avLst/>
              <a:gdLst>
                <a:gd name="textAreaLeft" fmla="*/ 0 w 2403000"/>
                <a:gd name="textAreaRight" fmla="*/ 2403360 w 240300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8441"/>
            <p:cNvSpPr/>
            <p:nvPr/>
          </p:nvSpPr>
          <p:spPr>
            <a:xfrm>
              <a:off x="5276880" y="2493360"/>
              <a:ext cx="9954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Design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8442"/>
            <p:cNvSpPr/>
            <p:nvPr/>
          </p:nvSpPr>
          <p:spPr>
            <a:xfrm>
              <a:off x="5278320" y="4678560"/>
              <a:ext cx="99540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Implement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8443"/>
            <p:cNvSpPr/>
            <p:nvPr/>
          </p:nvSpPr>
          <p:spPr>
            <a:xfrm>
              <a:off x="2871720" y="2496240"/>
              <a:ext cx="99540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Focu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8444"/>
            <p:cNvSpPr/>
            <p:nvPr/>
          </p:nvSpPr>
          <p:spPr>
            <a:xfrm>
              <a:off x="2874960" y="4681440"/>
              <a:ext cx="99540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Reflect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481000" y="1371600"/>
            <a:ext cx="352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Strategies &amp; 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(Learning Obj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4880" y="167652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Science Inqui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3320" y="556272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62440" y="556272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Garamond"/>
              </a:rPr>
              <a:t>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r. Ed Robe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320004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 can “learning objects” play in science instruction, especially with respect to science inqui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otential of online learning for the professional development of science teach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is meant by “Inquiry-Based” Science Instructi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2" name="" descr="img220.jpg"/>
          <p:cNvPicPr/>
          <p:nvPr/>
        </p:nvPicPr>
        <p:blipFill>
          <a:blip r:embed="rId2"/>
          <a:stretch/>
        </p:blipFill>
        <p:spPr>
          <a:xfrm>
            <a:off x="1219320" y="1981080"/>
            <a:ext cx="67053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14680" y="547560"/>
            <a:ext cx="571500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66484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95280" y="1025640"/>
            <a:ext cx="65534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7626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at leads to a question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s it possible for something to rest on top of water without sink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67626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 you think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of these things could float on top of wa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mall piece of pa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ooden toothp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apercl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ins of black pe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ink of one more small thing that you could 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It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a fork, hold a paperclip above a cup of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 the paperclip on the fork so the paperclip is parallel with the water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the fork into the water slow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make the paperclip flo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“Inquiry-Based” Science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lay several “Virtual Learning Object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e a range of uses of Virtual Learning Objects and Discuss the relationship between those uses and elements of Inquiry-Based science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is this like/unlike a mosquit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Photo of a needle on the water's surface"/>
          <p:cNvPicPr/>
          <p:nvPr/>
        </p:nvPicPr>
        <p:blipFill>
          <a:blip r:embed="rId2"/>
          <a:stretch/>
        </p:blipFill>
        <p:spPr>
          <a:xfrm>
            <a:off x="1600200" y="1962000"/>
            <a:ext cx="60199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ter Molecu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3048120"/>
            <a:ext cx="91440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2971800"/>
            <a:ext cx="91440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3200400"/>
            <a:ext cx="2438280" cy="2286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2209680"/>
            <a:ext cx="380880" cy="381240"/>
          </a:xfrm>
          <a:prstGeom prst="plus">
            <a:avLst>
              <a:gd name="adj" fmla="val 42264"/>
            </a:avLst>
          </a:prstGeom>
          <a:solidFill>
            <a:srgbClr val="ff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943600"/>
            <a:ext cx="4572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po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048120"/>
            <a:ext cx="91440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2971800"/>
            <a:ext cx="91440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3200400"/>
            <a:ext cx="2438640" cy="2286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42264"/>
            </a:avLst>
          </a:prstGeom>
          <a:solidFill>
            <a:srgbClr val="ff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5943600"/>
            <a:ext cx="4572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poles align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pull on each oth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153280" cy="451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025880" y="3714840"/>
            <a:ext cx="917640" cy="990360"/>
          </a:xfrm>
          <a:custGeom>
            <a:avLst/>
            <a:gdLst>
              <a:gd name="textAreaLeft" fmla="*/ 0 w 917640"/>
              <a:gd name="textAreaRight" fmla="*/ 918000 w 9176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895480"/>
            <a:ext cx="917280" cy="990720"/>
          </a:xfrm>
          <a:custGeom>
            <a:avLst/>
            <a:gdLst>
              <a:gd name="textAreaLeft" fmla="*/ 0 w 917280"/>
              <a:gd name="textAreaRight" fmla="*/ 917640 w 917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6480" y="2895480"/>
            <a:ext cx="917640" cy="990720"/>
          </a:xfrm>
          <a:custGeom>
            <a:avLst/>
            <a:gdLst>
              <a:gd name="textAreaLeft" fmla="*/ 0 w 917640"/>
              <a:gd name="textAreaRight" fmla="*/ 918000 w 9176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733920"/>
            <a:ext cx="917640" cy="990360"/>
          </a:xfrm>
          <a:custGeom>
            <a:avLst/>
            <a:gdLst>
              <a:gd name="textAreaLeft" fmla="*/ 0 w 917640"/>
              <a:gd name="textAreaRight" fmla="*/ 918000 w 9176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4495680"/>
            <a:ext cx="917640" cy="990720"/>
          </a:xfrm>
          <a:custGeom>
            <a:avLst/>
            <a:gdLst>
              <a:gd name="textAreaLeft" fmla="*/ 0 w 917640"/>
              <a:gd name="textAreaRight" fmla="*/ 918000 w 9176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8080" y="4508640"/>
            <a:ext cx="917280" cy="990360"/>
          </a:xfrm>
          <a:custGeom>
            <a:avLst/>
            <a:gdLst>
              <a:gd name="textAreaLeft" fmla="*/ 0 w 917280"/>
              <a:gd name="textAreaRight" fmla="*/ 917640 w 9172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3480" y="3733920"/>
            <a:ext cx="917640" cy="990360"/>
          </a:xfrm>
          <a:custGeom>
            <a:avLst/>
            <a:gdLst>
              <a:gd name="textAreaLeft" fmla="*/ 0 w 917640"/>
              <a:gd name="textAreaRight" fmla="*/ 918000 w 9176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71" y="9000"/>
                </a:lnTo>
                <a:lnTo>
                  <a:pt x="6371" y="10018"/>
                </a:lnTo>
                <a:lnTo>
                  <a:pt x="10018" y="10018"/>
                </a:lnTo>
                <a:lnTo>
                  <a:pt x="10018" y="6371"/>
                </a:lnTo>
                <a:lnTo>
                  <a:pt x="9000" y="6371"/>
                </a:lnTo>
                <a:lnTo>
                  <a:pt x="10800" y="0"/>
                </a:lnTo>
                <a:lnTo>
                  <a:pt x="12600" y="6371"/>
                </a:lnTo>
                <a:lnTo>
                  <a:pt x="11582" y="6371"/>
                </a:lnTo>
                <a:lnTo>
                  <a:pt x="11582" y="10018"/>
                </a:lnTo>
                <a:lnTo>
                  <a:pt x="15229" y="10018"/>
                </a:lnTo>
                <a:lnTo>
                  <a:pt x="15229" y="9000"/>
                </a:lnTo>
                <a:lnTo>
                  <a:pt x="21600" y="10800"/>
                </a:lnTo>
                <a:lnTo>
                  <a:pt x="15229" y="12600"/>
                </a:lnTo>
                <a:lnTo>
                  <a:pt x="15229" y="11582"/>
                </a:lnTo>
                <a:lnTo>
                  <a:pt x="11582" y="11582"/>
                </a:lnTo>
                <a:lnTo>
                  <a:pt x="11582" y="15229"/>
                </a:lnTo>
                <a:lnTo>
                  <a:pt x="12600" y="15229"/>
                </a:lnTo>
                <a:lnTo>
                  <a:pt x="10800" y="21600"/>
                </a:lnTo>
                <a:lnTo>
                  <a:pt x="9000" y="15229"/>
                </a:lnTo>
                <a:lnTo>
                  <a:pt x="10018" y="15229"/>
                </a:lnTo>
                <a:lnTo>
                  <a:pt x="10018" y="11582"/>
                </a:lnTo>
                <a:lnTo>
                  <a:pt x="6371" y="11582"/>
                </a:lnTo>
                <a:lnTo>
                  <a:pt x="6371" y="12600"/>
                </a:ln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762600" cy="36781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219320" y="5927760"/>
            <a:ext cx="533160" cy="625320"/>
            <a:chOff x="1219320" y="5927760"/>
            <a:chExt cx="533160" cy="625320"/>
          </a:xfrm>
        </p:grpSpPr>
        <p:sp>
          <p:nvSpPr>
            <p:cNvPr id="181" name=""/>
            <p:cNvSpPr/>
            <p:nvPr/>
          </p:nvSpPr>
          <p:spPr>
            <a:xfrm>
              <a:off x="1219320" y="601992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927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3880" y="6324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752480" y="5943600"/>
            <a:ext cx="533160" cy="625320"/>
            <a:chOff x="1752480" y="5943600"/>
            <a:chExt cx="533160" cy="625320"/>
          </a:xfrm>
        </p:grpSpPr>
        <p:sp>
          <p:nvSpPr>
            <p:cNvPr id="185" name=""/>
            <p:cNvSpPr/>
            <p:nvPr/>
          </p:nvSpPr>
          <p:spPr>
            <a:xfrm>
              <a:off x="1752480" y="60357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040" y="5943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7040" y="634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819520" y="5943600"/>
            <a:ext cx="533160" cy="625320"/>
            <a:chOff x="2819520" y="5943600"/>
            <a:chExt cx="533160" cy="625320"/>
          </a:xfrm>
        </p:grpSpPr>
        <p:sp>
          <p:nvSpPr>
            <p:cNvPr id="189" name=""/>
            <p:cNvSpPr/>
            <p:nvPr/>
          </p:nvSpPr>
          <p:spPr>
            <a:xfrm>
              <a:off x="2819520" y="60357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4080" y="5943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634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86000" y="5943600"/>
            <a:ext cx="533160" cy="625320"/>
            <a:chOff x="2286000" y="5943600"/>
            <a:chExt cx="533160" cy="625320"/>
          </a:xfrm>
        </p:grpSpPr>
        <p:sp>
          <p:nvSpPr>
            <p:cNvPr id="193" name=""/>
            <p:cNvSpPr/>
            <p:nvPr/>
          </p:nvSpPr>
          <p:spPr>
            <a:xfrm>
              <a:off x="2286000" y="60357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90560" y="5943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90560" y="634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52680" y="5943600"/>
            <a:ext cx="533160" cy="625320"/>
            <a:chOff x="3352680" y="5943600"/>
            <a:chExt cx="533160" cy="625320"/>
          </a:xfrm>
        </p:grpSpPr>
        <p:sp>
          <p:nvSpPr>
            <p:cNvPr id="197" name=""/>
            <p:cNvSpPr/>
            <p:nvPr/>
          </p:nvSpPr>
          <p:spPr>
            <a:xfrm>
              <a:off x="3352680" y="60357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7240" y="5943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240" y="634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5959440"/>
            <a:ext cx="533160" cy="625320"/>
            <a:chOff x="3886200" y="5959440"/>
            <a:chExt cx="533160" cy="625320"/>
          </a:xfrm>
        </p:grpSpPr>
        <p:sp>
          <p:nvSpPr>
            <p:cNvPr id="201" name=""/>
            <p:cNvSpPr/>
            <p:nvPr/>
          </p:nvSpPr>
          <p:spPr>
            <a:xfrm>
              <a:off x="3886200" y="60516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90760" y="5959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90760" y="6356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52880" y="5959440"/>
            <a:ext cx="533160" cy="625320"/>
            <a:chOff x="4952880" y="5959440"/>
            <a:chExt cx="533160" cy="625320"/>
          </a:xfrm>
        </p:grpSpPr>
        <p:sp>
          <p:nvSpPr>
            <p:cNvPr id="205" name=""/>
            <p:cNvSpPr/>
            <p:nvPr/>
          </p:nvSpPr>
          <p:spPr>
            <a:xfrm>
              <a:off x="4952880" y="60516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57440" y="5959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57440" y="6356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419720" y="5959440"/>
            <a:ext cx="533160" cy="625320"/>
            <a:chOff x="4419720" y="5959440"/>
            <a:chExt cx="533160" cy="625320"/>
          </a:xfrm>
        </p:grpSpPr>
        <p:sp>
          <p:nvSpPr>
            <p:cNvPr id="209" name=""/>
            <p:cNvSpPr/>
            <p:nvPr/>
          </p:nvSpPr>
          <p:spPr>
            <a:xfrm>
              <a:off x="4419720" y="60516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24280" y="5959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24280" y="6356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86400" y="5959440"/>
            <a:ext cx="533160" cy="625320"/>
            <a:chOff x="5486400" y="5959440"/>
            <a:chExt cx="533160" cy="625320"/>
          </a:xfrm>
        </p:grpSpPr>
        <p:sp>
          <p:nvSpPr>
            <p:cNvPr id="213" name=""/>
            <p:cNvSpPr/>
            <p:nvPr/>
          </p:nvSpPr>
          <p:spPr>
            <a:xfrm>
              <a:off x="5486400" y="60516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90960" y="5959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90960" y="6356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019920" y="5975280"/>
            <a:ext cx="533160" cy="625320"/>
            <a:chOff x="6019920" y="5975280"/>
            <a:chExt cx="533160" cy="625320"/>
          </a:xfrm>
        </p:grpSpPr>
        <p:sp>
          <p:nvSpPr>
            <p:cNvPr id="217" name=""/>
            <p:cNvSpPr/>
            <p:nvPr/>
          </p:nvSpPr>
          <p:spPr>
            <a:xfrm>
              <a:off x="6019920" y="606744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24480" y="5975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24480" y="6372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086600" y="5975280"/>
            <a:ext cx="533160" cy="625320"/>
            <a:chOff x="7086600" y="5975280"/>
            <a:chExt cx="533160" cy="625320"/>
          </a:xfrm>
        </p:grpSpPr>
        <p:sp>
          <p:nvSpPr>
            <p:cNvPr id="221" name=""/>
            <p:cNvSpPr/>
            <p:nvPr/>
          </p:nvSpPr>
          <p:spPr>
            <a:xfrm>
              <a:off x="7086600" y="606744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91160" y="5975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91160" y="6372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553080" y="5975280"/>
            <a:ext cx="533160" cy="625320"/>
            <a:chOff x="6553080" y="5975280"/>
            <a:chExt cx="533160" cy="625320"/>
          </a:xfrm>
        </p:grpSpPr>
        <p:sp>
          <p:nvSpPr>
            <p:cNvPr id="225" name=""/>
            <p:cNvSpPr/>
            <p:nvPr/>
          </p:nvSpPr>
          <p:spPr>
            <a:xfrm>
              <a:off x="6553080" y="606744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57640" y="5975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7640" y="6372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435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mfwgroup.jpg"/>
          <p:cNvPicPr/>
          <p:nvPr/>
        </p:nvPicPr>
        <p:blipFill>
          <a:blip r:embed="rId2"/>
          <a:stretch/>
        </p:blipFill>
        <p:spPr>
          <a:xfrm>
            <a:off x="1600200" y="1117440"/>
            <a:ext cx="609588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eak the Ten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295280" y="15192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28600" y="870120"/>
            <a:ext cx="9588600" cy="643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419720" y="3352680"/>
            <a:ext cx="152280" cy="15264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276720"/>
            <a:ext cx="152280" cy="15228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724280"/>
            <a:ext cx="152640" cy="15264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3124080"/>
            <a:ext cx="152280" cy="15264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066680"/>
            <a:ext cx="152280" cy="15264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352680"/>
            <a:ext cx="152640" cy="15264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3505320"/>
            <a:ext cx="15264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just happened he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3911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35812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happened here awhile ago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47840" cy="632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48320" y="6324480"/>
            <a:ext cx="403848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can you say from observing thi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407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76720" y="2133720"/>
            <a:ext cx="5209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 you know about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76480" y="1981080"/>
            <a:ext cx="679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0866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2:31:42Z</dcterms:created>
  <dc:creator>Ed Robeck</dc:creator>
  <dc:description/>
  <dc:language>en-US</dc:language>
  <cp:lastModifiedBy>Ed Robeck</cp:lastModifiedBy>
  <dcterms:modified xsi:type="dcterms:W3CDTF">2008-05-05T01:09:33Z</dcterms:modified>
  <cp:revision>3</cp:revision>
  <dc:subject/>
  <dc:title>Inquiry-Based Science Instruction and Virtual Learning Objects</dc:title>
</cp:coreProperties>
</file>